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928225" cy="6778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248-64B5-4EAB-8024-883AC073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D62-BB9E-4CBB-A25D-29672A15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554-227B-49EB-8E18-3042C78B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683E-7EE9-4FEE-9C83-1CD5EC8F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B88-92BC-4D24-9997-45443A79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CCD-64F3-4322-91B5-4F130A3C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4D2-2D52-4280-B6F7-EB72F24D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701-1D0D-4A52-956B-03CE419B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73F-7380-4D19-BDD0-53B5BA76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40E-4BA9-41A5-9C6B-A0D4DBF1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FAC-31FD-4B4F-915D-A6FA40F2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C9B-D033-4DA8-B8AD-5D20607A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1412-043E-4FB5-8D61-512CFF9A74EC}" type="datetime3">
              <a:rPr b="0" lang="lt-LT" sz="1400" spc="-1" strike="noStrike">
                <a:solidFill>
                  <a:srgbClr val="000000"/>
                </a:solidFill>
                <a:latin typeface="Arial"/>
              </a:rPr>
              <a:t>2026 metų liepos 31 d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BACE-E872-47AE-8F57-96CF9C555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773360"/>
            <a:ext cx="8569440" cy="30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 KLAUSYTOJĄ/AUDITORIJĄ ORIENTUOTOS VIEŠOSIOS KALBOS PARENGIMAS IR REALIZAVIMA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ktorius doc. dr. Artūras Blinstru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EB8-1A56-4B57-941C-C4E67FBF18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1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ŽA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S jūs toks? (prisistatymas kaip patyrimo ir išmanymo patvirtinim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ie KĄ ketinate kalbė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DA baig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DĖL aš turėčiau klausytis arba KAS man iš 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P jūs ketinate sudominti šia 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27664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atsakymas į auditorijai natūraliai kylančius klausim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3E6-1C34-4FAC-BCA7-BF97B444AD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2):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DURINĖ D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3141360"/>
            <a:ext cx="878544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nį apsprendžia kalbos rūšis: informavimo, įtikinimo, progin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sitelkti į du ar tris pagrindinius kalbos komponen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akyti ir parodyti bei pademonstruo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Laikytis aiškios struktūros. Naudoti perėji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lbėti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klausytoju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, o ne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skaitytoj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205000"/>
            <a:ext cx="82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išdėstyti temą ir išlaikyti auditorijos dėmes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5FA-5CDE-4D02-A460-0097BFF838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3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BAIGA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3200"/>
            </a:b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Visa gerai, kas gerai baigiasi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64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rumpas, originalus pakartojimas-apibendrinimas to kas kalbėta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frazės-šablonai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baigiant, apibendrinant, reziumuojan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erspektyvos atvėrimas, paskatinimas veikti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atsakymas į auditorijai kirbantį klausimą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as man iš to?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lausimai-atsakym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ero galutinio įspūdžio palik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27664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klausytojo psichologinio poreikio pabaigai patenkin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0D90-0037-4FE5-9DCF-10CCD82D46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4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RĖJIMAI</a:t>
            </a:r>
            <a:br>
              <a:rPr sz="3200"/>
            </a:b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Perėjimai - tai “klijai” laikantys visas kalbos dal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osekliai, rūpestingai vesti klausytojus nuo vienos idėjos ar dalies prie k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ziumuoti, pateikti tarpines išvadas, trumpus anon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ali būti panaudoti dėmesiui atkreipti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gali tarnauti ne tik kaip stimulai, skelbiantys auditorijai,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 ji buvo ar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 dabar y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, bet ir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link eis toliau)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227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Perėjimų funkcij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6AB-F219-47BA-A451-F5E0C73DD1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628640"/>
            <a:ext cx="856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 AUDITORIJĄ ORIENTUOTAS PRANEŠĖJAS IR JO KALBOS STILIU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4149720"/>
            <a:ext cx="67690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Į AUDITORIJĄ ORIENTUOTO PRANEŠĖJO ATRIBUTAI (dalyko išmanymas, baimės įveikimas, sugebėjimas pelnyti auditorijos pasitikėjimą, aprang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KALBOS STILIAUS ASPEKTAI (balsas, akių kontaktas, mimika, poza, gestai, manieros, humor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849-044C-4E74-94F5-6DAFB35E2D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1)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64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ote gerai nusimanyti apie tai, ką kalb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u išmanyti viešojo kalbėjimo pagrind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u suprasti svarbiausius psichoedukacinius suaugusiųjų auditorijos ypatumus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637000"/>
            <a:ext cx="619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1. Dalyko išmany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0AA-EE39-4072-BEBC-2AD2641612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2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3349800"/>
            <a:ext cx="860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odėl bijome kalbėti...? Kas mums darosi kai nerimaujame..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Dalyko išmany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aktikavimasis ir repetavi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okymasis tinkamai kvėpuo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engti kofeino ir nikoti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Įžanga “be popieriaus”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349360"/>
            <a:ext cx="8064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2. Nerimo ir auditorijos baimės valdymas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Blogai yra ne nervai – blogai yra nesugebėti jų tramdy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276-F9E2-4406-83AF-5B701FBDE8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3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86058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dėl pasitikėjimas neretai prilygsta įtikėjimu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sitikėjimas kyla ne iš kalbėtojo, o iš klausytoj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loginiai pasitikėjimo kalbėtoju aspekt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349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Sugebėjimas pelnyti auditorijos pasitikėjimą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77D-2814-4AD3-B4F7-E51AE0A57B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4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2997000"/>
            <a:ext cx="8605800" cy="27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Esminiai veiksniai, lemiantys pasitikėjim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Charakteris (sąžiningumas, nuoširdumas, patikimum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many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amu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taig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veikas ekstravertiškumas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2349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Sugebėjimas pelnyti auditorijos pasitikėjimą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854-BF8A-46C5-8ADE-7E20551F90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5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880" y="3429000"/>
            <a:ext cx="8947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pranga – pranešimo dalis. Ji turi įsilieti į kalbą, o ne išsiskir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Dalykiškumas, konservatyvumas, patogumas, tvarkingu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engti dėmesį atitraukiančių papuošalų, daiktais “išpūstų” kišeni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Bendras reikalavimas aprangai – vienu laipteliu aukščiau nei vyraujanti auditorijoje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349360"/>
            <a:ext cx="8280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4. Apranga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Žmonės daro visų rūšių sprendimus, žiūrėdami į aprangą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0E8-FD0E-4867-B1B9-9DCAAAE8E5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2708280"/>
            <a:ext cx="8640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augusiųjų auditorijos specif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rengimas pranešim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nešimo struktū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 auditoriją orientuotas pranešėjas ir jo kalbos stili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aizdinės priemonė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413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ASKAITOS DAL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852-7246-449B-91AA-4CDD7A3C30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1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3141720"/>
            <a:ext cx="8605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reitis. Kalbėjimo tempo derinimas su balso ritmu ir stipru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arsumas ir jo kaitaliojimas. Monoton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rtikuliacija ir jos lavin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uzė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421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1. Balsas.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188-84EA-465B-B229-40774A5860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2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3068280"/>
            <a:ext cx="84610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esminis pasitikėjimo veiksn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oficiali bendravimo pradž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pagrindinė auditorijos būklės diagnostikos ir kalbos korekcijos priemon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ūk “paieškos prožektorius”, o ne “lazeri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ir skaity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2421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2. Akių kontaktas.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C56-6CEF-4C26-8734-0F92A673DE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3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3213000"/>
            <a:ext cx="8461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imikos reikšmė. Šypsena ir jos “dozavim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oza: stovėsena, sėdės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inkami ir netinkami gest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anieros. Klausytoją erzinantys įproči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verbalinis auditorijos elges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2492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Kūno kalba: mimika, poza, gestai, manieros.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BD2-2665-4ACF-898E-8CA87D5276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4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3284280"/>
            <a:ext cx="8461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lbos paįvairinimas sąmojais - labai subtilu, situatyvu ir individu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aipykitės iš savęs, o ne iš auditori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ngti etninio, rasinio, seksualinio, vulgaraus humoro, sarkaz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eniniai nutikimai – puiki medžiaga humor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2492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4. Humoras.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ED2-94DE-4FFD-9900-E815D034A7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9280" y="1773360"/>
            <a:ext cx="856944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501336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IŠVA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2. DEMONSTRAV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AB8-B0AA-4F2D-B369-200E5EC088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4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ŠVAIZD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880" y="2924280"/>
            <a:ext cx="8947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žiūrim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nformatyv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prast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aizdų-žodžių santykio optimal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Optimalus teksto kiekis (nuo 4x4 iki... 7x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siejimas su pranešimu. Skaidrės - ne skaitiniai. Jos turi atspindėti pagrindinį eskiz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34936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ompiuterinė grafika (skaidrės)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E35-77B5-4CFB-9E8C-157073F0F6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4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EMONSTRAVIMA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880" y="3141720"/>
            <a:ext cx="89470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ankstinis pasireng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kaidrių skaičiaus optimal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ientavimasis į klausytoją, o ne į priemon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emonstravimo skland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34936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ompiuterinė grafika (skaidrės)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7BB-0450-43D5-A470-0CFB5B8B68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4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Literatūra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76780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Collins, J. (2000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Kaip įtaigiai kalbėti ir veikti auditoriją: tobulesnio mąstymo ir darbo būtinasis vadovas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Vilnius: Knygų spektr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Kushner, M. (1999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Tobula kalba žaliems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Kaunas: Smaltijos leidyk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Nauckūnaitė, Z. (2000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Iškalbos mokymas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Kaunas. Švi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Pakšienė, V., Gutauskienė, A. (2001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Debatai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Kaunas: Šviesa.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Peas, A. (2003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Kūno kalba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Kaunas: Dajal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Pečiulis, Ž. (2004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Efektyvi komunikacija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Vilnius: Versus aure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Spies, S. (2006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Kūno kalba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Vilnius: Va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лдин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(2001)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сихология влияния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Перевод с англ. – Санкт-Петербург: Пи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3C5-98AE-436D-89AC-12D0AA956F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773360"/>
            <a:ext cx="8569440" cy="24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UAUGUSIŲJŲ AUDITORIJOS SPECIFIK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5E4-1FE6-4568-AC64-F9CF61FEFD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. SUAUGUSIŲJŲ AUDITORIJOS SPECIFIKA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256500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 aiškų tikslą (...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ko aš čia sėdžiu?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rangina savo laik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ientuoti į problemų sprendim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ėgsta patirti sėkmę, būti pastebėti, pripaži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 patirtį, kuri padeda arba... trukd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retai yra skeptiški, ypač naujos informacijos atžvilgi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ita... 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7FC-4E70-465A-A51A-A2F892F146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. SUAUGUSIŲJŲ AUDITORIJOS SPECIFIKA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878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anešėjas įvertins ir sugebės pasinaudoti dalyvių sukaupta gyvenimo patirti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kurti ryšiai (sąveika) tarp dalyvių bei tarp pranešimo informacinio turinio ir dalyvių profesinės veiklos, interesų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teikiamą informaciją dalyviai galės įgyvendinti praktiko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alyviai turės galimybę įtakoti pranešimo eigą ar mokymosi proces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kurta saugumo, pagarbos ir komforto atmosfe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darytos sąlygos dalyviams patirti sėkm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2050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Pranešimas, mokymai suaugusiesiems bus sėkmingesni jei: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1BE-A715-4A50-A445-1CB0FB964A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2421000"/>
            <a:ext cx="85694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SIRENGIMAS KALB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3FE-D57B-4375-9F2C-6860233800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. PASIRENGIMAS KALBAI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s dalyvau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ą jie nori išgir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dėl kalbėsiu ir ką noriu pasaky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iek laik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ur ir kokiomis sąlygom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kiomis priemonėm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205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lausimai į kuriuos reikia atsaky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95F-86B8-4975-8AB2-E39A4109B8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. PASIRENGIMAS KALBAI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formavimo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apie objektus, įvykius, procesus, sąvokas)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tikinimo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patriotinės, politinės, moralinės etinės, justicinės, komercinė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oginės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pristatymas, apdovanojimas, padėka, sveikinimas, tostas, pramoginė kalb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2205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albų rūš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30C-6BDC-40F0-89B1-FC7140538B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1628640"/>
            <a:ext cx="8569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ALBOS STRUKTŪ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Jūs lakūnas, o Jūsų kalba – lėktuvo pilotavimas PAKYLANT..., SKRENDANT... ir NUSILEIDŽIANT..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4508640"/>
            <a:ext cx="43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ĮŽA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VIDURINĖ (PAGRINDINĖ) D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PAB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PERĖJIM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33F-0A89-491C-A286-5C88B33605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2:29:57Z</dcterms:created>
  <dc:creator>Audrius</dc:creator>
  <dc:description/>
  <dc:language>en-US</dc:language>
  <cp:lastModifiedBy>Vartotojas</cp:lastModifiedBy>
  <dcterms:modified xsi:type="dcterms:W3CDTF">2011-01-19T13:19:46Z</dcterms:modified>
  <cp:revision>221</cp:revision>
  <dc:subject/>
  <dc:title>Slide 1</dc:title>
</cp:coreProperties>
</file>